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016-20AD-4729-B317-0192E6E4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537-212D-4555-A413-7CE3694B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95B-DE47-450D-8F80-22920E00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01D-EBE1-4A1C-A800-CDDCA5E0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D9E8-55E4-41CC-8DD8-C8C8AB78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380A-CCD5-406D-8B86-EEA93429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3514-60FF-45AE-A270-85DD3DD8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3B73-1C60-4D96-BD85-27D95D79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B1FD-394C-4AAE-9F6C-A766E43E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A251-1D61-43F1-8151-74BC48C6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A850-2E5E-4261-9E0C-673CAC7A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068-B58B-4DA3-9992-7F72CCD7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8B2E-F3D1-43CD-ADD9-61C0CDEC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30EF-BCEE-4467-97EA-95DA4EC6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7C20-AAFA-4F0C-933B-E4EB992C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F915-A044-449B-B8C1-FE447B97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6286-543E-4693-8E2F-B60CE525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FA1-8F01-40F0-A096-DB009C2A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4CF-C2B7-4D0A-98B4-7550EE24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8FE-1604-41B9-B013-E928B793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6AA-1E14-4BDA-871F-39812ABB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213-6BA7-4C82-BC91-CBC382D1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40B-947D-4BC0-B393-EF949207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F26-C197-496C-BE25-452AD915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78F1-0632-4E02-BE86-34F87B782F87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CDBE-2013-4824-82D1-D6F9191512ED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817227"/>
                </a:solidFill>
                <a:latin typeface="Arial Black"/>
              </a:rPr>
              <a:t>Cells and Systems</a:t>
            </a:r>
            <a:endParaRPr b="0" lang="en-US" sz="44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08000" y="3657240"/>
            <a:ext cx="4902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Blepharisma ciliate  Contractile Vacuole in Action.avi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Cell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3300"/>
                </a:solidFill>
                <a:latin typeface="Arial"/>
              </a:rPr>
              <a:t>Read the handout and complete the following questions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What do all living things have in common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What is a eukaryote and a prokaryote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What does a cell membrane do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920" y="1844640"/>
          <a:ext cx="8702640" cy="3292560"/>
        </p:xfrm>
        <a:graphic>
          <a:graphicData uri="http://schemas.openxmlformats.org/drawingml/2006/table">
            <a:tbl>
              <a:tblPr/>
              <a:tblGrid>
                <a:gridCol w="1368360"/>
                <a:gridCol w="1117440"/>
                <a:gridCol w="1244880"/>
                <a:gridCol w="1242720"/>
                <a:gridCol w="1243080"/>
                <a:gridCol w="1243080"/>
                <a:gridCol w="124308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unction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imalia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ungi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tae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tocista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karyote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cells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cleus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ell Wall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arge Vacuole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loroplasts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17227"/>
                </a:solidFill>
                <a:latin typeface="Arial Black"/>
              </a:rPr>
              <a:t>Student Knowledge and Skills</a:t>
            </a:r>
            <a:endParaRPr b="0" lang="en-US" sz="36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WHAT YOU WILL LEARN BY THE END OF THIS UNIT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List the main parts of a microscop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2060"/>
                </a:solidFill>
                <a:latin typeface="Arial"/>
              </a:rPr>
              <a:t>How a microscope work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differences between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components of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jobs performed by different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jobs performed by different tissues in animals and plant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to make a wet mount and stain the mou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Make an accurate drawing of a cell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25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25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25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25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25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25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25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25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25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How a Microscope Work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28280"/>
            <a:ext cx="83059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Using a number of lenses an image is magnified and viewed through an eyepiece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The magnification is the eye piece magnification multiplied by the objective lens magnification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Eg 10 x 4 = 40x magnificatio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How Does a Microscope Work_.mp4" descr=""/>
          <p:cNvPicPr/>
          <p:nvPr/>
        </p:nvPicPr>
        <p:blipFill>
          <a:blip r:embed="rId1"/>
          <a:stretch/>
        </p:blipFill>
        <p:spPr>
          <a:xfrm>
            <a:off x="38160" y="107640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1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Revision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28280"/>
            <a:ext cx="83059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Complete the following table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55640" y="2421000"/>
          <a:ext cx="6095880" cy="18540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Eyepiece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Objective Lens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Magnification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5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5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25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5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10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10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100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40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400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393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4411800"/>
            <a:ext cx="830592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Estimate the size of the cell in each of the fields of view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Cell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lls are the building blocks of life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y come in all shapes and size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me organisms are made up of only one cell and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-cellula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thers are made up of lots of cells and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-cellula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ontent Placeholder 2"/>
          <p:cNvSpPr/>
          <p:nvPr/>
        </p:nvSpPr>
        <p:spPr>
          <a:xfrm>
            <a:off x="611280" y="1073160"/>
            <a:ext cx="830412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VEN PROCESSES REQUIRED FOR LIFE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 ovement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 espiration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 ensitivity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G rowth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 eproduction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 xercise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 utrition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ntro to cells teacher tube.mp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06:10:25Z</dcterms:created>
  <dc:creator>Administrator</dc:creator>
  <dc:description/>
  <dc:language>en-US</dc:language>
  <cp:lastModifiedBy>Peter Kos</cp:lastModifiedBy>
  <dcterms:modified xsi:type="dcterms:W3CDTF">2012-05-17T13:47:25Z</dcterms:modified>
  <cp:revision>47</cp:revision>
  <dc:subject/>
  <dc:title>Cells an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9391033</vt:lpwstr>
  </property>
</Properties>
</file>